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1c77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67619A9E-7752-424F-AD6A-0CD95A9AA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1FE78918-4FDD-4673-AFC1-6D83CED9B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BCCBF-12A4-4678-A696-8B7836AF52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828440" y="4187160"/>
            <a:ext cx="7010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7DD2B-96B7-4379-80D7-7491365BF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828440" y="418716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420520" y="418716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7290A-4720-4863-8908-AFB22C4BF2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225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99040" y="1600200"/>
            <a:ext cx="225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69280" y="1600200"/>
            <a:ext cx="225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828440" y="4187160"/>
            <a:ext cx="225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199040" y="4187160"/>
            <a:ext cx="225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69280" y="4187160"/>
            <a:ext cx="225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01051-256C-4A82-8633-7D2929D906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828440" y="160020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828440" y="152280"/>
            <a:ext cx="701028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828440" y="418716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828440" y="160020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DD51E-761B-43A9-9E2B-5E6130BA7D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20520" y="418716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828440" y="4187160"/>
            <a:ext cx="7010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828440" y="4187160"/>
            <a:ext cx="7010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828440" y="418716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420520" y="418716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225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99040" y="1600200"/>
            <a:ext cx="225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69280" y="1600200"/>
            <a:ext cx="225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828440" y="4187160"/>
            <a:ext cx="225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199040" y="4187160"/>
            <a:ext cx="225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69280" y="4187160"/>
            <a:ext cx="2257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18591-A6ED-4EE3-8F2D-C732DA8C99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1B393-3860-4788-8EB6-AC07D402B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AF45C-4627-4143-8CB1-DB210CBAF4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828440" y="152280"/>
            <a:ext cx="701028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8C796-82C4-40E7-A982-509CE2F0C2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828440" y="418716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251AE-602C-4E6A-8397-D536C4B0DB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420520" y="418716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83A91-856F-4E12-A1EC-9EEE9E58BD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20520" y="1600200"/>
            <a:ext cx="3420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828440" y="4187160"/>
            <a:ext cx="7010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699F9-DC43-4F6E-820B-FCF0051221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1c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440" y="160020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3184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9044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22520" indent="-15264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9828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9828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9828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162560" y="6629400"/>
            <a:ext cx="19047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3BCC-9EF9-4197-9F57-0C9AED6B07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036" descr="rgb-vaaka-logo"/>
          <p:cNvPicPr/>
          <p:nvPr/>
        </p:nvPicPr>
        <p:blipFill>
          <a:blip r:embed="rId2"/>
          <a:stretch/>
        </p:blipFill>
        <p:spPr>
          <a:xfrm>
            <a:off x="352440" y="477720"/>
            <a:ext cx="723960" cy="69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4" descr="xkansi_tk_kayttaytymis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1c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828440" y="160020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3184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9044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22520" indent="-15264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9828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9828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9828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2098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1e1c77"/>
                </a:solidFill>
                <a:latin typeface="Arial"/>
              </a:rPr>
              <a:t>WP3 Knowledge Brokerage on Digital Skills and Digital Games: first thoughts</a:t>
            </a: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66320" y="3568320"/>
            <a:ext cx="662940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9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Liisa Ilomäki &amp; Minna Lakk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echnology in Education Research Group (Tedu)</a:t>
            </a:r>
            <a:br>
              <a:rPr sz="2000"/>
            </a:b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University of Helsinki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0" descr="logo_smaller"/>
          <p:cNvPicPr/>
          <p:nvPr/>
        </p:nvPicPr>
        <p:blipFill>
          <a:blip r:embed="rId1"/>
          <a:stretch/>
        </p:blipFill>
        <p:spPr>
          <a:xfrm>
            <a:off x="6357960" y="285840"/>
            <a:ext cx="2214720" cy="534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IST Logo"/>
          <p:cNvPicPr/>
          <p:nvPr/>
        </p:nvPicPr>
        <p:blipFill>
          <a:blip r:embed="rId2"/>
          <a:stretch/>
        </p:blipFill>
        <p:spPr>
          <a:xfrm>
            <a:off x="7429680" y="928800"/>
            <a:ext cx="12394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1e1c77"/>
                </a:solidFill>
                <a:latin typeface="Arial"/>
              </a:rPr>
              <a:t>UH expertise for WP3</a:t>
            </a: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828440" y="160020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revious work in Ernist for which UH was responsible for creating answers to authentic questions based on scientific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xpertise in school – technology – practitiones – policy making  -comb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mpirical research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xperiences in co-ordinating and organising EU-level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162920" y="6629400"/>
            <a:ext cx="19047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8F48-A195-4AED-BDDB-281AE56FE9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1e1c77"/>
                </a:solidFill>
                <a:latin typeface="Arial"/>
              </a:rPr>
              <a:t>A simplified description about the process of creating evindence-based answers</a:t>
            </a: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828440" y="160020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We define the topics for the project (digital skills (or competencies?), digital ga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We ask from typical users what they would like to know about the topics, based on empirical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We elaborate the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We make empirical ”reviews”: search, evaluate the findings, write short / long answ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We publish the ans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162920" y="6629400"/>
            <a:ext cx="19047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A278-70BB-4D7A-AF7D-C12138429D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1e1c77"/>
                </a:solidFill>
                <a:latin typeface="Arial"/>
              </a:rPr>
              <a:t>Open issues</a:t>
            </a: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828440" y="160020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Defining the target group: to whom we submit the answers? Policy-makers on what level? Educators? Advanced staff – new comers? National differences?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artners need to find relevant persons who should ask questions – various groups, am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anguage: English as an option – should national languages be used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Division of work between partners in WP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ts val="2999"/>
              </a:lnSpc>
              <a:spcBef>
                <a:spcPts val="499"/>
              </a:spcBef>
              <a:buClr>
                <a:srgbClr val="fcd116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 road map for the work to be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31840">
              <a:lnSpc>
                <a:spcPts val="2599"/>
              </a:lnSpc>
              <a:spcBef>
                <a:spcPts val="224"/>
              </a:spcBef>
              <a:buClr>
                <a:srgbClr val="fcd11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uestions from the preliminary users before s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31840">
              <a:lnSpc>
                <a:spcPts val="2599"/>
              </a:lnSpc>
              <a:spcBef>
                <a:spcPts val="224"/>
              </a:spcBef>
              <a:buClr>
                <a:srgbClr val="fcd11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nswers ready till the end of Septemb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162920" y="6629400"/>
            <a:ext cx="19047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C411-E160-4C1B-B13B-A7C25170FF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85560" y="357120"/>
            <a:ext cx="755316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1e1c77"/>
                </a:solidFill>
                <a:latin typeface="Arial"/>
              </a:rPr>
              <a:t>A possible structure, based on experiences in ERNIST</a:t>
            </a:r>
            <a:br>
              <a:rPr sz="2400"/>
            </a:br>
            <a:endParaRPr b="1" lang="en-US" sz="2400" spc="-1" strike="noStrike">
              <a:solidFill>
                <a:srgbClr val="1e1c77"/>
              </a:solidFill>
              <a:latin typeface="Arial"/>
            </a:endParaRPr>
          </a:p>
        </p:txBody>
      </p:sp>
      <p:sp>
        <p:nvSpPr>
          <p:cNvPr id="100" name="Slide Number Placeholder 2"/>
          <p:cNvSpPr/>
          <p:nvPr/>
        </p:nvSpPr>
        <p:spPr>
          <a:xfrm>
            <a:off x="7162920" y="6629400"/>
            <a:ext cx="19047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07C9-31F7-4CE9-8E07-60D473F4DA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1"/>
          <p:cNvSpPr/>
          <p:nvPr/>
        </p:nvSpPr>
        <p:spPr>
          <a:xfrm>
            <a:off x="7162920" y="7129440"/>
            <a:ext cx="19047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51B6-6D3A-4987-BAE2-521D92B685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7"/>
          <p:cNvSpPr/>
          <p:nvPr/>
        </p:nvSpPr>
        <p:spPr>
          <a:xfrm>
            <a:off x="0" y="5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1"/>
          <p:cNvGrpSpPr/>
          <p:nvPr/>
        </p:nvGrpSpPr>
        <p:grpSpPr>
          <a:xfrm>
            <a:off x="500040" y="785880"/>
            <a:ext cx="7572240" cy="6357960"/>
            <a:chOff x="500040" y="785880"/>
            <a:chExt cx="7572240" cy="6357960"/>
          </a:xfrm>
        </p:grpSpPr>
        <p:sp>
          <p:nvSpPr>
            <p:cNvPr id="104" name="AutoShape 36"/>
            <p:cNvSpPr/>
            <p:nvPr/>
          </p:nvSpPr>
          <p:spPr>
            <a:xfrm>
              <a:off x="500040" y="785880"/>
              <a:ext cx="7286760" cy="635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35"/>
            <p:cNvSpPr/>
            <p:nvPr/>
          </p:nvSpPr>
          <p:spPr>
            <a:xfrm>
              <a:off x="3392640" y="4545000"/>
              <a:ext cx="1801080" cy="60912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search based evidence for policy mak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34"/>
            <p:cNvSpPr/>
            <p:nvPr/>
          </p:nvSpPr>
          <p:spPr>
            <a:xfrm>
              <a:off x="1928880" y="2714400"/>
              <a:ext cx="1400040" cy="487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at is evidence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33"/>
            <p:cNvSpPr/>
            <p:nvPr/>
          </p:nvSpPr>
          <p:spPr>
            <a:xfrm>
              <a:off x="5929560" y="2143080"/>
              <a:ext cx="2142720" cy="274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at users need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32"/>
            <p:cNvSpPr/>
            <p:nvPr/>
          </p:nvSpPr>
          <p:spPr>
            <a:xfrm>
              <a:off x="500040" y="1285200"/>
              <a:ext cx="189072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rinist Paper 1: Reliable evidence for policy making in complex situ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31"/>
            <p:cNvSpPr/>
            <p:nvPr/>
          </p:nvSpPr>
          <p:spPr>
            <a:xfrm>
              <a:off x="3500280" y="3714480"/>
              <a:ext cx="1928520" cy="700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cess of developing the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”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pers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”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for us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30"/>
            <p:cNvSpPr/>
            <p:nvPr/>
          </p:nvSpPr>
          <p:spPr>
            <a:xfrm>
              <a:off x="6001200" y="2428560"/>
              <a:ext cx="192852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 task: User need analy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at practitioners ask about ICT in edu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29"/>
            <p:cNvSpPr/>
            <p:nvPr/>
          </p:nvSpPr>
          <p:spPr>
            <a:xfrm>
              <a:off x="5929560" y="3714480"/>
              <a:ext cx="166788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rnist Paper 6: The organisation of the review pro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28"/>
            <p:cNvSpPr/>
            <p:nvPr/>
          </p:nvSpPr>
          <p:spPr>
            <a:xfrm>
              <a:off x="714240" y="3357360"/>
              <a:ext cx="15346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at kinds of studies?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per 2: Evidence-based policy advice for policy mak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27"/>
            <p:cNvSpPr/>
            <p:nvPr/>
          </p:nvSpPr>
          <p:spPr>
            <a:xfrm>
              <a:off x="4048560" y="4244040"/>
              <a:ext cx="720" cy="28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26"/>
            <p:cNvSpPr/>
            <p:nvPr/>
          </p:nvSpPr>
          <p:spPr>
            <a:xfrm>
              <a:off x="3286080" y="3143160"/>
              <a:ext cx="28584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24"/>
            <p:cNvSpPr/>
            <p:nvPr/>
          </p:nvSpPr>
          <p:spPr>
            <a:xfrm>
              <a:off x="2500560" y="1071000"/>
              <a:ext cx="1643040" cy="13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rnist Paper 5 Existing web sites with reviews of ICT in education resear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22"/>
            <p:cNvSpPr/>
            <p:nvPr/>
          </p:nvSpPr>
          <p:spPr>
            <a:xfrm flipH="1">
              <a:off x="5357880" y="3214440"/>
              <a:ext cx="71424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 flipH="1">
              <a:off x="1643040" y="3071880"/>
              <a:ext cx="28584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20"/>
            <p:cNvSpPr/>
            <p:nvPr/>
          </p:nvSpPr>
          <p:spPr>
            <a:xfrm>
              <a:off x="2101680" y="2327040"/>
              <a:ext cx="333360" cy="3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19"/>
            <p:cNvSpPr/>
            <p:nvPr/>
          </p:nvSpPr>
          <p:spPr>
            <a:xfrm flipH="1">
              <a:off x="5326920" y="3920400"/>
              <a:ext cx="46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17"/>
            <p:cNvSpPr/>
            <p:nvPr/>
          </p:nvSpPr>
          <p:spPr>
            <a:xfrm>
              <a:off x="1791000" y="5703120"/>
              <a:ext cx="1468080" cy="426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uccesful netwo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16"/>
            <p:cNvSpPr/>
            <p:nvPr/>
          </p:nvSpPr>
          <p:spPr>
            <a:xfrm>
              <a:off x="4341960" y="5683680"/>
              <a:ext cx="1200600" cy="426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chool portrai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5"/>
            <p:cNvSpPr/>
            <p:nvPr/>
          </p:nvSpPr>
          <p:spPr>
            <a:xfrm>
              <a:off x="3268800" y="5793120"/>
              <a:ext cx="107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12"/>
            <p:cNvSpPr/>
            <p:nvPr/>
          </p:nvSpPr>
          <p:spPr>
            <a:xfrm>
              <a:off x="3859560" y="2820240"/>
              <a:ext cx="1533960" cy="700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munication with  policy mak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11"/>
            <p:cNvSpPr/>
            <p:nvPr/>
          </p:nvSpPr>
          <p:spPr>
            <a:xfrm>
              <a:off x="1723680" y="4487040"/>
              <a:ext cx="153540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i-FI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twork of networ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0"/>
            <p:cNvSpPr/>
            <p:nvPr/>
          </p:nvSpPr>
          <p:spPr>
            <a:xfrm>
              <a:off x="2325240" y="4660560"/>
              <a:ext cx="0" cy="98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>
              <a:off x="4643280" y="5214960"/>
              <a:ext cx="199440" cy="33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8"/>
            <p:cNvSpPr/>
            <p:nvPr/>
          </p:nvSpPr>
          <p:spPr>
            <a:xfrm>
              <a:off x="4357800" y="928080"/>
              <a:ext cx="221472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per 4: Evidence and Policy: a collaborative exploration of the needs of policy-oriented user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7"/>
            <p:cNvSpPr/>
            <p:nvPr/>
          </p:nvSpPr>
          <p:spPr>
            <a:xfrm>
              <a:off x="4286160" y="3500280"/>
              <a:ext cx="35280" cy="1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5"/>
            <p:cNvSpPr/>
            <p:nvPr/>
          </p:nvSpPr>
          <p:spPr>
            <a:xfrm flipH="1">
              <a:off x="2325240" y="3357360"/>
              <a:ext cx="31680" cy="11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4"/>
            <p:cNvSpPr/>
            <p:nvPr/>
          </p:nvSpPr>
          <p:spPr>
            <a:xfrm>
              <a:off x="6795360" y="2730240"/>
              <a:ext cx="360" cy="11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3"/>
            <p:cNvSpPr/>
            <p:nvPr/>
          </p:nvSpPr>
          <p:spPr>
            <a:xfrm>
              <a:off x="3572280" y="2214360"/>
              <a:ext cx="50004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"/>
            <p:cNvSpPr/>
            <p:nvPr/>
          </p:nvSpPr>
          <p:spPr>
            <a:xfrm flipH="1">
              <a:off x="4786200" y="1928880"/>
              <a:ext cx="214200" cy="78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3T09:52:38Z</dcterms:created>
  <dc:creator>Caroline Kearney</dc:creator>
  <dc:description/>
  <dc:language>en-US</dc:language>
  <cp:lastModifiedBy>Administrator</cp:lastModifiedBy>
  <cp:lastPrinted>2003-08-18T12:35:25Z</cp:lastPrinted>
  <dcterms:modified xsi:type="dcterms:W3CDTF">2010-03-16T19:05:24Z</dcterms:modified>
  <cp:revision>217</cp:revision>
  <dc:subject/>
  <dc:title>Ei dian otsikkoa</dc:title>
</cp:coreProperties>
</file>